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jpeg" ContentType="image/jpeg"/>
  <Override PartName="/ppt/media/image3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89A-6F8B-408A-B9C4-CDD0B628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575-EB38-4846-BACF-D3A57EDC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90B-EC91-4F9B-81F6-BD8F4DB2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482C-CEF6-4DA0-B9D7-F32FEA65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4F6E-7B68-40AC-9EE3-ED9AD5F7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C648-218E-4D5C-B4CB-35EC4F4A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C371-8905-49AD-8608-5E4A295B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8996-DB28-4789-AAA8-23816E2E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ECA5-8D87-4975-95A1-419B2A58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3E97-EFEA-4E49-A87A-5CDC1544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CAEB-16DE-45B1-B7B3-E6D4B70A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FF62-8F85-48B8-B207-1CD49497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1445-547C-4952-8566-FF97C90B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C89D-8872-48BF-A902-E40E84BB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5B5C-CAB9-40C6-B97F-9A7C2991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7EBA-81CA-4CFD-992A-8251CA64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BF60-98FC-4FEF-9FF3-A3CEE847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FC56-D39F-45EE-AC34-45C9EC3E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6D77-9A32-4CC2-BFA7-788729B0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0B31-656E-4209-ADD3-3735C207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5A8-6F0D-4EF5-846E-077CA6CF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C34-4097-486A-9647-5D348C10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915-898D-4CF4-B504-F1C73E7F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4D62-3493-4F1E-AF85-941A4591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438F-3FFC-4F84-BB7C-467953BF696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7FFB-FC6B-4D35-BB4A-3A5DA2B22FB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09680" y="762120"/>
            <a:ext cx="464832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ff24"/>
                </a:solidFill>
                <a:latin typeface="Arial"/>
              </a:rPr>
              <a:t>Burn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276360" y="4419720"/>
            <a:ext cx="75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40640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Bu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ge done to 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mfort to vict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951ff"/>
                </a:solidFill>
                <a:latin typeface="Arial"/>
              </a:rPr>
              <a:t>How are Burns caus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1ff"/>
                </a:solidFill>
                <a:latin typeface="Arial"/>
              </a:rPr>
              <a:t>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1ff"/>
                </a:solidFill>
                <a:latin typeface="Arial"/>
              </a:rPr>
              <a:t>Hot objects or liqu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1ff"/>
                </a:solidFill>
                <a:latin typeface="Arial"/>
              </a:rPr>
              <a:t>Electr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1ff"/>
                </a:solidFill>
                <a:latin typeface="Arial"/>
              </a:rPr>
              <a:t>S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1ff"/>
                </a:solidFill>
                <a:latin typeface="Arial"/>
              </a:rPr>
              <a:t>Chemi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419720" y="3124080"/>
            <a:ext cx="2300040" cy="3060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845820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503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First-Degree Bur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Outer layer of skin is burned and turns 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ike sunb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90c"/>
                </a:solidFill>
                <a:latin typeface="Arial"/>
              </a:rPr>
              <a:t>Second-Degree Bur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700d"/>
                </a:solidFill>
                <a:latin typeface="Arial"/>
              </a:rPr>
              <a:t>A serious burn that Bli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700d"/>
                </a:solidFill>
                <a:latin typeface="Arial"/>
              </a:rPr>
              <a:t>Usually healing without scar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Third-Degree Bur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Very seriou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Deep layers of skin and nerve endings are damag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Very intense pain and will sc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to treat a bur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n the burn under cold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Ice on it until it doesn’t hu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 something protective around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90560" y="1523880"/>
            <a:ext cx="4421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nd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852560" y="4379760"/>
            <a:ext cx="4562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Henry Beenen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275580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33:46Z</dcterms:created>
  <dc:creator>Kraybill Campus LMS</dc:creator>
  <dc:description/>
  <dc:language>en-US</dc:language>
  <cp:lastModifiedBy>Kraybill Campus LMS</cp:lastModifiedBy>
  <dcterms:modified xsi:type="dcterms:W3CDTF">2011-05-26T16:06:52Z</dcterms:modified>
  <cp:revision>5</cp:revision>
  <dc:subject/>
  <dc:title>Burns!</dc:title>
</cp:coreProperties>
</file>